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A04-EB30-4E58-ABF9-A0659BD8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DF8-85EE-4E4A-9834-5EAED6BD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B78-58E1-49D0-8BE7-4D300C4A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140-B4B3-4D94-B3CA-D5638221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E56-E4CA-455B-B997-1CD9664B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FBF-F60F-4848-B9E9-C6703C97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4F6-6021-4212-91EF-7CAD100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B0A-045A-4141-81C8-CB56A75D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A32-CAF2-4EA1-AB60-7AEA41B8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D87-D68C-4194-BFF9-EA8BD39E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B2B-C50B-46C6-9CAE-77795D79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607-1256-4272-B3F7-849A116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9DBC-95D2-427D-A9E3-2A7900344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MSj00750290000%5B1%5D.wav" TargetMode="External"/><Relationship Id="rId3" Type="http://schemas.microsoft.com/office/2007/relationships/media" Target="file:///tmp/home/.config/libreoffice/4/user/gallery/MSj00750290000%5B1%5D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to be centered around a particular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 ro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pa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re volv 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revol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914400"/>
            <a:ext cx="17938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862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477120" y="4191120"/>
            <a:ext cx="2361960" cy="19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87692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6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7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2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ed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making holy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re ded ca 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de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1371600"/>
            <a:ext cx="137628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24480" y="4572000"/>
            <a:ext cx="2249640" cy="187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34120" y="2286000"/>
            <a:ext cx="17017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2</cp:lastModifiedBy>
  <dcterms:modified xsi:type="dcterms:W3CDTF">2009-01-14T18:29:58Z</dcterms:modified>
  <cp:revision>2</cp:revision>
  <dc:subject/>
  <dc:title>PowerPoint Presentation</dc:title>
</cp:coreProperties>
</file>